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642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6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4DBD3-0430-4BFB-8927-427868B54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13759-53FD-4F78-9ACE-F870FAF58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C6D2-8CCB-4195-8641-FE2B9E791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2720" cy="3768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0E5E6-D569-4F46-B0CA-F9C3F176B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FEBD3-89B5-4B80-91C3-5E8391FD4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4BE01-F456-4C36-B364-BD9FA08BAD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F0DC0-9F51-44D3-AC1D-12365D4AD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5F7A8-9897-48E5-9BCD-ABB50C4AB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5E754-D099-42FF-821D-51F309EDFC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4D0F0-0597-4C86-8FD4-A1EF09972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best scale in each circum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44DCD-7E58-4643-AD6A-71E2D41CD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ymour saying when children would program compu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) Limit by Price and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) Real point: why we should care: What one can learn that otherwsie is too difficult a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) Learning cultures and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8E09-71FA-46D6-9FDD-B435B7562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5AF6F-C8CD-4C44-B07C-1E41F446F5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that builds on and values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riences and knowledge of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5C564-CC46-45EA-830E-D2D7F8C12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763560"/>
            <a:ext cx="518184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89989-3C3D-4CF8-9EDB-F53A8686D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27591-462C-48D5-9A3F-F1217758B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2720" cy="3768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680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32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680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32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560" y="301680"/>
            <a:ext cx="88027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457200" y="1746360"/>
            <a:ext cx="9144000" cy="1440"/>
          </a:xfrm>
          <a:prstGeom prst="line">
            <a:avLst/>
          </a:prstGeom>
          <a:ln w="292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2" marL="1287360" indent="-2127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3" marL="1719360" indent="-20808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4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5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6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781200" y="1517760"/>
            <a:ext cx="190152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5649840" y="7132680"/>
            <a:ext cx="405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777777"/>
                </a:solidFill>
                <a:latin typeface="Arial"/>
              </a:rPr>
              <a:t>Cambridge, 17 September, 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ia@laptop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2047680"/>
            <a:ext cx="8818560" cy="51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XO and Learning</a:t>
            </a:r>
            <a:endParaRPr b="0" lang="en-US" sz="44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dia Urrea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PC 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laudia@laptop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http://www.laptop.org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Learning with others around the world (Scratch smokers program) 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9" name="Picture 7" descr="scratch"/>
          <p:cNvPicPr/>
          <p:nvPr/>
        </p:nvPicPr>
        <p:blipFill>
          <a:blip r:embed="rId1"/>
          <a:stretch/>
        </p:blipFill>
        <p:spPr>
          <a:xfrm>
            <a:off x="1992240" y="2255760"/>
            <a:ext cx="70279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Mobility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Bringing learning everywhe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in not limited to th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hole world becomes a student's laborator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Bringing connectivity everywhe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amily and community becom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with other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59280" y="202716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Learning everywher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SC02847"/>
          <p:cNvPicPr/>
          <p:nvPr/>
        </p:nvPicPr>
        <p:blipFill>
          <a:blip r:embed="rId1"/>
          <a:stretch/>
        </p:blipFill>
        <p:spPr>
          <a:xfrm>
            <a:off x="2982960" y="2103480"/>
            <a:ext cx="6168960" cy="4627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Family partici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Free and Open software 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iscover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Appropriation (Imagine, Reshape, reinvent) *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evelopers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Viability and sustainabilit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cal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Getting beyond the computer lab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Inclusion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Transforming learning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Impact on societal level, not just classroom or schoo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Full development of every child’s potential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Picture 11" descr="haiti 015"/>
          <p:cNvPicPr/>
          <p:nvPr/>
        </p:nvPicPr>
        <p:blipFill>
          <a:blip r:embed="rId1"/>
          <a:stretch/>
        </p:blipFill>
        <p:spPr>
          <a:xfrm>
            <a:off x="773280" y="2103480"/>
            <a:ext cx="4332240" cy="324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haiti 019"/>
          <p:cNvPicPr/>
          <p:nvPr/>
        </p:nvPicPr>
        <p:blipFill>
          <a:blip r:embed="rId2"/>
          <a:stretch/>
        </p:blipFill>
        <p:spPr>
          <a:xfrm>
            <a:off x="5268960" y="3627360"/>
            <a:ext cx="433224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OLPC workshop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1:1 immersive access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Ubiquitous connectiv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Free and open softwa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Scale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68360" y="2179800"/>
            <a:ext cx="502920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268960" y="339876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391000" y="301680"/>
            <a:ext cx="4343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eymour Pap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OLPC - Powerful idea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1:1 immersive access (ownership)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Ubiquitous connectiv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Mobilit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Free and open softwa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Scale (saturation)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1:1 Immersion acces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Expression &amp; representation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Modelling &amp; simulation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Computational literac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eep learning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Culturally relevant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Inclusion to home and commun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El Silencio – Costa Rica 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925560" y="233208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SCI0019"/>
          <p:cNvPicPr/>
          <p:nvPr/>
        </p:nvPicPr>
        <p:blipFill>
          <a:blip r:embed="rId2"/>
          <a:stretch/>
        </p:blipFill>
        <p:spPr>
          <a:xfrm>
            <a:off x="5268960" y="19512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5878440" y="5303880"/>
            <a:ext cx="281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l"/>
              </a:rPr>
              <a:t>117 inhabi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l"/>
              </a:rPr>
              <a:t>45 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l"/>
              </a:rPr>
              <a:t>Milk farms and agri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Map of the community (scale)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6" name="Picture 3" descr="mapa2"/>
          <p:cNvPicPr/>
          <p:nvPr/>
        </p:nvPicPr>
        <p:blipFill>
          <a:blip r:embed="rId1"/>
          <a:stretch/>
        </p:blipFill>
        <p:spPr>
          <a:xfrm>
            <a:off x="849240" y="3017880"/>
            <a:ext cx="3745080" cy="29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aquetaComunidad2-2"/>
          <p:cNvPicPr/>
          <p:nvPr/>
        </p:nvPicPr>
        <p:blipFill>
          <a:blip r:embed="rId2"/>
          <a:stretch/>
        </p:blipFill>
        <p:spPr>
          <a:xfrm>
            <a:off x="4964040" y="2027160"/>
            <a:ext cx="4506840" cy="3130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735440" y="5151600"/>
            <a:ext cx="5038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o count-r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set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ke “rev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orever  [ if (sensor1 = 0) [make “rev :rev + 1  record :rev beep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0480" y="0"/>
            <a:ext cx="89964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onten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19040" y="1967040"/>
            <a:ext cx="1582920" cy="463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451400" y="755640"/>
            <a:ext cx="4722840" cy="2903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424160" y="2731680"/>
            <a:ext cx="8264520" cy="4331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700"/>
            </a:b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Right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Left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lt; A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Left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gt; -A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Right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dam and Alex’s discrete metho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Ubiquitous connectivity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finer gran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i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eeply social learning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llective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s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discussion-calf"/>
          <p:cNvPicPr/>
          <p:nvPr/>
        </p:nvPicPr>
        <p:blipFill>
          <a:blip r:embed="rId1"/>
          <a:stretch/>
        </p:blipFill>
        <p:spPr>
          <a:xfrm>
            <a:off x="468360" y="4618080"/>
            <a:ext cx="6400800" cy="244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video-calf"/>
          <p:cNvPicPr/>
          <p:nvPr/>
        </p:nvPicPr>
        <p:blipFill>
          <a:blip r:embed="rId2"/>
          <a:stretch/>
        </p:blipFill>
        <p:spPr>
          <a:xfrm>
            <a:off x="3745080" y="1951200"/>
            <a:ext cx="5638680" cy="4402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Learning with others around the world 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09-18T17:59:25Z</dcterms:modified>
  <cp:revision>19</cp:revision>
  <dc:subject/>
  <dc:title>OLPC</dc:title>
</cp:coreProperties>
</file>